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49B-A1E2-44EA-ACD6-A6422E35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D6D-4E62-46B8-BB42-C87AC823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A73-3028-4E68-8952-2738F435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9AB-7CDB-4F86-8F94-68A1C9B1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D87-067E-455E-95CF-A16C9001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559-AEFB-4422-B37D-52A658AE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F5E-97AB-43DA-8B37-50F94ADB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EDA-CFC0-469D-A1A7-B34AF9D5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BAB3-FD95-4FF8-9BCD-9C7E8B75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9E04-7418-41DB-9D51-9AC0C36D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F3C-3C5A-427A-A862-29FFD166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CA71-B024-4DF9-95C7-AF7BB87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7AA-079A-429A-BB1E-C8DC47B0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8229600" cy="4647960"/>
          </a:xfrm>
          <a:prstGeom prst="wedgeRoundRectCallout">
            <a:avLst>
              <a:gd name="adj1" fmla="val -48087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ON GIORNO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A POSSO FARE PER LEI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04920"/>
            <a:ext cx="8305920" cy="4647960"/>
          </a:xfrm>
          <a:prstGeom prst="wedgeRoundRectCallout">
            <a:avLst>
              <a:gd name="adj1" fmla="val -10666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REI VIAGGIARE P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O M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 PIACEREBBE VISITARE ALM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 IMPORTANTI CITTA’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ISSIM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CO COSA POSSIAMO FA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NOTIAMO AEREO 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BERGO CON LA PRIM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PPA A ROM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8600"/>
            <a:ext cx="8077320" cy="4724280"/>
          </a:xfrm>
          <a:prstGeom prst="wedgeRoundRectCallout">
            <a:avLst>
              <a:gd name="adj1" fmla="val -3106"/>
              <a:gd name="adj2" fmla="val 8000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T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REI FERMARMI A RO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CINQU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I’ POTRO’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UMENTI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ITARE QUALCHE MUSE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04920"/>
            <a:ext cx="8382240" cy="4647960"/>
          </a:xfrm>
          <a:prstGeom prst="wedgeRoundRectCallout">
            <a:avLst>
              <a:gd name="adj1" fmla="val -4810"/>
              <a:gd name="adj2" fmla="val 80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 CE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OMA SI PUO’ VEDERE MOLTO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NQU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GGERA’ ALL’ALBERGO ITALI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SO LA STAZIONE TERMI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3106"/>
              <a:gd name="adj2" fmla="val 80500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’ IN ZONA CENTR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077320" cy="5105160"/>
          </a:xfrm>
          <a:prstGeom prst="wedgeRoundRectCallout">
            <a:avLst>
              <a:gd name="adj1" fmla="val -41550"/>
              <a:gd name="adj2" fmla="val 7213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, E’ PROPRIO AL CENT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UO’ PRENDERE I MEZ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QUALUNQUE DESTINAZI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OI, COL TRENO, PUO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GGIUNG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NZ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LTO B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RENZE E’ UNA CITTA’ CHE 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PRE VOLU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D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 PIACEREBBE FERMARM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 ALMENO TRE GIOR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AMO ANCHE FARE QUATT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I PUO’ GIRARE LA TOSCANA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ITARE PIS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ENA E LA COSTA TIRREN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1550"/>
              <a:gd name="adj2" fmla="val 8415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 BE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PER ULTIMO VORREI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REGIONI DELL’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RI VISITARE L’UMBR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UMBRIA E’ BELLISSI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O’ LASCIARE LA MATT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N TRE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IVARE A PERU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RE 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UGLIO TROVERA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NTA MUSIC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ON GIORN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LEVO QUALCHE INFOR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A UN VIAGG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TA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S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A C’E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 SPECIALE A PERUG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 LA MUS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304920"/>
            <a:ext cx="8305920" cy="4647960"/>
          </a:xfrm>
          <a:prstGeom prst="wedgeRoundRectCallout">
            <a:avLst>
              <a:gd name="adj1" fmla="val 32050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’ UMBRIA JAZ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 FAMOSA RASSEGNA MUSICA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 PERSONAGGI NO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MPORTANTI NEL MOD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 JAZ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TT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O ADORO LA MUSICA JAZ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ORA, QUANDO S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NTI I BIGLIETT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VE DIRMI COME VU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GGIAR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RIMA CLAS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IN ECONOM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CCIA TUTTO IN PRI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STO VIAGG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GLIO PROPRIO GODERMELO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ISSIM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 SAREMO INTOR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 MILLE EUR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TTO COMPR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 I BIGLIETTI SARANNO PRO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N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34375"/>
              <a:gd name="adj2" fmla="val 70935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RINGRAZIO DI TUT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RNERO’ DOMANI POMERIGG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RIVEDERCI E GRAZ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’ DAVVERO CAPITATO NEL PO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USTO E AL MO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US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IAMO APPENA RICEVU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NUOVO CATALO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04920"/>
            <a:ext cx="8458200" cy="4647960"/>
          </a:xfrm>
          <a:prstGeom prst="wedgeRoundRectCallout">
            <a:avLst>
              <a:gd name="adj1" fmla="val -49944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LENDIDO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O INTERESSATO A VISIT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ITALIA CENTRA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’ULTIMA VOLTA CHE S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O IN ITALIA HO VISTO L’ITAL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 N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ORA QUESTA VOL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PUO’ DEDICARE ALLE BELLEZ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TISTICHE DI REG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E LA TOSCANA, L’UMB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LAZIO E LE MAR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 PRENDO IL CATALO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49939"/>
              <a:gd name="adj2" fmla="val 81624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 GRAZIE.  VORREI VED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PIU’ SULLA STORIA E L’AR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ITAL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L E’ LA CITTA’ PIU’ RICCA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O LEI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 MONUMENTI E MUSE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8077320" cy="5257800"/>
          </a:xfrm>
          <a:prstGeom prst="wedgeRoundRectCallout">
            <a:avLst>
              <a:gd name="adj1" fmla="val -9550"/>
              <a:gd name="adj2" fmla="val 64402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PE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MA E’ MOLTO GRANDE 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’E’ COSI’ TA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 VEDERE!  PIAZZE, MUSEI,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NTAN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 ANCHE FIRENZE, ASSIS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UGIA, ORVIE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O TUTTE BELLISS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04920"/>
            <a:ext cx="8077320" cy="4647960"/>
          </a:xfrm>
          <a:prstGeom prst="wedgeRoundRectCallout">
            <a:avLst>
              <a:gd name="adj1" fmla="val -9550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 SO!  UNO VORREB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DERE PROPRIO TUTTO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 IO HO SOLTA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UE SETTIMANE DI FER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A MI CONSIGL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04920"/>
            <a:ext cx="8458200" cy="4647960"/>
          </a:xfrm>
          <a:prstGeom prst="wedgeRoundRectCallout">
            <a:avLst>
              <a:gd name="adj1" fmla="val -11375"/>
              <a:gd name="adj2" fmla="val 79407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SSIAMO ORGANIZZ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 VIAGGIO AD ITINERAR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FERISCE VIAGGIARE DA SOL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CON GRUPPI ORGANIZZAT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02:12:51Z</dcterms:created>
  <dc:creator>Preferred Customer</dc:creator>
  <dc:description/>
  <dc:language>en-US</dc:language>
  <cp:lastModifiedBy>VALERIA PALLADINO</cp:lastModifiedBy>
  <cp:lastPrinted>2002-09-04T02:39:53Z</cp:lastPrinted>
  <dcterms:modified xsi:type="dcterms:W3CDTF">2003-10-16T15:21:19Z</dcterms:modified>
  <cp:revision>3</cp:revision>
  <dc:subject/>
  <dc:title>No Slide Title</dc:title>
</cp:coreProperties>
</file>